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E80-A855-458C-BCBD-721293B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88F-0C61-41E9-9092-8CE90008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F5F-4F0A-4A0B-A9BB-7D835861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69A-E887-4194-975D-6785D9E9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FBA-10E9-43E1-92B6-466B343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4F6-39ED-432E-96B7-4574A36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8B6-F52F-4231-AD23-C2BAF0F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C60-43D4-4528-97E6-442428B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702-6ED5-4865-A779-14D230E2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E77-B353-4963-8AF7-FF2E9896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B6B-F463-4BBB-B21E-402D7BD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EAF-95A8-4740-88C9-4837AEF8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F1E8-8772-4FAC-BB4C-7C0C37CA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prstGeom prst="pie">
              <a:avLst/>
            </a:pr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prstGeom prst="pie">
              <a:avLst/>
            </a:pr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1"/>
          <p:cNvSpPr/>
          <p:nvPr/>
        </p:nvSpPr>
        <p:spPr>
          <a:xfrm>
            <a:off x="990720" y="5410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五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钾素化肥的测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2"/>
          <p:cNvSpPr txBox="1"/>
          <p:nvPr/>
        </p:nvSpPr>
        <p:spPr>
          <a:xfrm>
            <a:off x="685800" y="1143000"/>
            <a:ext cx="79246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第五章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钾素化肥的测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6172200" y="5486400"/>
          <a:ext cx="2971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486400"/>
                    <a:ext cx="2971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"/>
          <p:cNvSpPr/>
          <p:nvPr/>
        </p:nvSpPr>
        <p:spPr>
          <a:xfrm>
            <a:off x="762120" y="1143000"/>
            <a:ext cx="761976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钾沉淀有一定的溶解度，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中可溶解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.3~5.6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为防止沉淀溶解，在洗涤时通过同离子效应，先用稀的四苯硼钠溶液洗涤，最后用少量水洗涤，水的体积也需要严格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温度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会缓慢分解、高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时可全部快速分解，因此，烘干时应控制温度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四苯硼钾沉淀可溶于丙酮。用后的坩埚如粘附有沉淀，可用丙酮洗后，再加蒸馏水抽洗，然后烘干、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0" y="4800600"/>
            <a:ext cx="2895120" cy="2057400"/>
            <a:chOff x="0" y="4800600"/>
            <a:chExt cx="2895120" cy="2057400"/>
          </a:xfrm>
        </p:grpSpPr>
        <p:graphicFrame>
          <p:nvGraphicFramePr>
            <p:cNvPr id="110" name="Object 5"/>
            <p:cNvGraphicFramePr/>
            <p:nvPr/>
          </p:nvGraphicFramePr>
          <p:xfrm>
            <a:off x="0" y="4800600"/>
            <a:ext cx="248436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00600"/>
                      <a:ext cx="248436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6"/>
            <p:cNvGraphicFramePr/>
            <p:nvPr/>
          </p:nvGraphicFramePr>
          <p:xfrm>
            <a:off x="1482120" y="5058360"/>
            <a:ext cx="1413000" cy="83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82120" y="5058360"/>
                      <a:ext cx="1413000" cy="83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4" name="Object 7"/>
          <p:cNvGraphicFramePr/>
          <p:nvPr/>
        </p:nvGraphicFramePr>
        <p:xfrm>
          <a:off x="6019920" y="4648320"/>
          <a:ext cx="312408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648320"/>
                    <a:ext cx="31240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38080" y="1371600"/>
            <a:ext cx="754380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生成的四苯硼钾沉淀被丙酮溶解，在中性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微碱性条件下以铬酸钾做指示剂，用硝酸银标准液滴定，到达终点时，微过量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与铬酸根生成黄色的铬酸银沉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+ 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 → Ag[B(C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]↓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A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+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+CrO</a:t>
            </a:r>
            <a:r>
              <a:rPr b="1" lang="en-US" sz="2400" spc="-1" strike="noStrike" baseline="-30000">
                <a:solidFill>
                  <a:srgbClr val="003300"/>
                </a:solidFill>
                <a:latin typeface="宋体"/>
              </a:rPr>
              <a:t>4</a:t>
            </a:r>
            <a:r>
              <a:rPr b="1" lang="en-US" sz="2400" spc="-1" strike="noStrike" baseline="30000">
                <a:solidFill>
                  <a:srgbClr val="003300"/>
                </a:solidFill>
                <a:latin typeface="宋体"/>
              </a:rPr>
              <a:t>2-</a:t>
            </a:r>
            <a:r>
              <a:rPr b="1" lang="en-US" sz="2400" spc="-1" strike="noStrike">
                <a:solidFill>
                  <a:srgbClr val="0033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g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r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51720" y="3078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四苯硼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62120" y="990720"/>
            <a:ext cx="754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淀、洗涤、过滤同四苯硼钾质量法，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用注射器取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丙酮，分五次冲洗滤器的内壁四周，小心摇动，使内壁与底部沉淀完全溶解，抽气过滤，将滤器用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10ml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水分四次洗净。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取下滤器，向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丙酮的抽滤液中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1g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氢氧化铝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吸附四苯硼银白色沉淀，便于终点观查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碳酸氢钠溶液，充分摇匀，加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滴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0.5%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铬酸钾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用硝酸银标准液滴定至有稳定的淡红色沉淀为终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326240" y="276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90720" y="1447920"/>
            <a:ext cx="746748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钾与一定量过量的四苯硼阴离子反应生成四苯硼钾沉淀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过量的四苯硼钠用季铵盐滴定，到达终点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季铵盐与达旦黄指示剂反应使溶液呈浅红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以十六烷基三甲基溴化铵为例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a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 +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Br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===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[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1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C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N][B(C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H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5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en-US" sz="2600" spc="-1" strike="noStrike" baseline="-30000">
                <a:solidFill>
                  <a:srgbClr val="000066"/>
                </a:solidFill>
                <a:latin typeface="宋体"/>
              </a:rPr>
              <a:t>4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]↓</a:t>
            </a:r>
            <a:r>
              <a:rPr b="1" lang="zh-CN" sz="2600" spc="-1" strike="noStrike">
                <a:solidFill>
                  <a:srgbClr val="000066"/>
                </a:solidFill>
                <a:latin typeface="宋体"/>
              </a:rPr>
              <a:t>白色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+NaB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64160" y="3808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四苯硼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季铵盐容量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838080" y="838080"/>
            <a:ext cx="76964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吸取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~2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钾待测液于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%EDTA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溶液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.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甲醛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36%)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加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0%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的氢氧化钠调节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为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8-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，准确加入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四苯硼钠标准液，边加边搅，放置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分钟，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用慢速滤纸过滤于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00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三角瓶中，将沉淀转入滤纸内、用冷水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将沉淀和滤纸再洗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3-5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次，每次用水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，全部收集三角瓶中，加达旦黄指示剂</a:t>
            </a:r>
            <a:r>
              <a:rPr b="1" lang="en-US" sz="2600" spc="-1" strike="noStrike">
                <a:solidFill>
                  <a:srgbClr val="990099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</a:rPr>
              <a:t>滴，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季铵盐标准液滴定由浅黄色突变为浅红色为终点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如沉淀絮结成块时需再加指示剂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：达旦黄是复杂的有机二磺酸钠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97640" y="228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0"/>
          <p:cNvGraphicFramePr/>
          <p:nvPr/>
        </p:nvGraphicFramePr>
        <p:xfrm>
          <a:off x="4205160" y="4191120"/>
          <a:ext cx="4938840" cy="21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191120"/>
                    <a:ext cx="493884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1676520" y="762120"/>
            <a:ext cx="6019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0" y="4029120"/>
            <a:ext cx="9144000" cy="2819520"/>
            <a:chOff x="0" y="4029120"/>
            <a:chExt cx="9144000" cy="2819520"/>
          </a:xfrm>
        </p:grpSpPr>
        <p:sp>
          <p:nvSpPr>
            <p:cNvPr id="146" name="Freeform 22"/>
            <p:cNvSpPr/>
            <p:nvPr/>
          </p:nvSpPr>
          <p:spPr>
            <a:xfrm>
              <a:off x="0" y="4206240"/>
              <a:ext cx="2759040" cy="26420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2562120" y="4162320"/>
              <a:ext cx="2570400" cy="26863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951440" y="4319640"/>
              <a:ext cx="2425680" cy="252864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7029360" y="4029120"/>
              <a:ext cx="2114640" cy="2819520"/>
            </a:xfrm>
            <a:prstGeom prst="pie">
              <a:avLst/>
            </a:pr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969840" y="5187960"/>
              <a:ext cx="1332000" cy="166032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0" y="5163480"/>
              <a:ext cx="882720" cy="16848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2612880" y="5093280"/>
              <a:ext cx="2222640" cy="175500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5270400" y="5004720"/>
              <a:ext cx="1427400" cy="18435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6878520" y="5010120"/>
              <a:ext cx="2265480" cy="1838160"/>
            </a:xfrm>
            <a:prstGeom prst="pie">
              <a:avLst/>
            </a:pr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32"/>
          <p:cNvGrpSpPr/>
          <p:nvPr/>
        </p:nvGrpSpPr>
        <p:grpSpPr>
          <a:xfrm>
            <a:off x="7467480" y="2590920"/>
            <a:ext cx="1387440" cy="1403280"/>
            <a:chOff x="7467480" y="2590920"/>
            <a:chExt cx="1387440" cy="1403280"/>
          </a:xfrm>
        </p:grpSpPr>
        <p:sp>
          <p:nvSpPr>
            <p:cNvPr id="156" name="Freeform 33"/>
            <p:cNvSpPr/>
            <p:nvPr/>
          </p:nvSpPr>
          <p:spPr>
            <a:xfrm>
              <a:off x="7967520" y="3335400"/>
              <a:ext cx="595440" cy="316080"/>
            </a:xfrm>
            <a:prstGeom prst="pie">
              <a:avLst/>
            </a:prstGeom>
            <a:solidFill>
              <a:srgbClr val="f2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7772400" y="3146400"/>
              <a:ext cx="465120" cy="244440"/>
            </a:xfrm>
            <a:prstGeom prst="pie">
              <a:avLst/>
            </a:pr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093160" y="2760840"/>
              <a:ext cx="228600" cy="484200"/>
            </a:xfrm>
            <a:prstGeom prst="pie">
              <a:avLst/>
            </a:prstGeom>
            <a:solidFill>
              <a:srgbClr val="0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759800" y="3043440"/>
              <a:ext cx="382320" cy="134640"/>
            </a:xfrm>
            <a:prstGeom prst="pie">
              <a:avLst/>
            </a:prstGeom>
            <a:solidFill>
              <a:srgbClr val="00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967520" y="2590920"/>
              <a:ext cx="887400" cy="79992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190000" y="3355920"/>
              <a:ext cx="374400" cy="27648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94840" y="3559320"/>
              <a:ext cx="457200" cy="434880"/>
            </a:xfrm>
            <a:prstGeom prst="pie">
              <a:avLst/>
            </a:prstGeom>
            <a:solidFill>
              <a:srgbClr val="498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234280" y="2941560"/>
              <a:ext cx="244440" cy="400320"/>
            </a:xfrm>
            <a:prstGeom prst="pie">
              <a:avLst/>
            </a:prstGeom>
            <a:solidFill>
              <a:srgbClr val="1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7770960" y="3087720"/>
              <a:ext cx="16488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7467480" y="3113280"/>
              <a:ext cx="3049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7807320" y="3106800"/>
              <a:ext cx="41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291520" y="3524400"/>
              <a:ext cx="586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246880" y="3576600"/>
              <a:ext cx="57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7502400" y="3132360"/>
              <a:ext cx="265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7810560" y="3108240"/>
              <a:ext cx="34920" cy="24120"/>
            </a:xfrm>
            <a:prstGeom prst="pie">
              <a:avLst/>
            </a:pr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7816680" y="3114720"/>
              <a:ext cx="2232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7832880" y="311652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Object 1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584360" cy="73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3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468160" y="1828800"/>
            <a:ext cx="48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五章  钾素化学肥料的测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6480" y="2789280"/>
            <a:ext cx="24926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酸银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四苯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季铵盐容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7162920" y="5181480"/>
          <a:ext cx="19810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181480"/>
                    <a:ext cx="1981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3"/>
          <p:cNvSpPr/>
          <p:nvPr/>
        </p:nvSpPr>
        <p:spPr>
          <a:xfrm>
            <a:off x="380880" y="74124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钾肥多用天然钾盐矿经浓缩富集精制加工而成，主要品种为硫酸钾和氯化钾，另外有少量的生产水泥的副产物窑灰钾肥，及大量使用的农家肥料草木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硫酸钾、氯化钾等化学钾肥都是水溶性的，可直接用水加热提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液中的钾素测定方法有质量法、容量法和仪器分析法。质量法中有古老的氯铂酸法、高氯酸法、亚硝酸钴钠法和现在使用的四苯硼钠法。容量法有亚硝酸钴钠法、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硝酸银法和四苯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季铵盐法。仪器分析方法有火焰光度法和原子吸收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9244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54380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914400" y="1219320"/>
            <a:ext cx="731520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钾肥经水溶解后，用甲醛消除试液中铵离子的干扰，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DTA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二胺四乙酸二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络合其它二价和多价阳离子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微碱性溶液中，钾离子与四苯硼阴离子反应生成白色的四苯硼钾沉淀。此沉淀的溶解度很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其水中的溶解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8*10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l/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且组成恒定，分子量较大，热稳定性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26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解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将四苯硼钾沉淀经过滤、洗涤、烘干、称量，即可计算出肥料的含钾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+ [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→K B(C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↓(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白色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49400" y="5335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0"/>
            <a:ext cx="4724280" cy="9144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47920" y="1600200"/>
            <a:ext cx="64008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样品的溶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用减量法称取磨细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0.5mm)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.500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烧杯中，加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水，在电炉上缓慢加热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转移到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、冷却、定容、摇匀；干过滤，弃取最初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-2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。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0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滤液于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容量瓶中，水定容摇匀，为测定钾的供试液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4419720" y="0"/>
            <a:ext cx="4724280" cy="76212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54800" y="595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14400" y="914400"/>
            <a:ext cx="75438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约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 4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供试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肥料含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、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下时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ml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烧杯中，用水稀释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DT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溶液，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滴酚酞指示剂，逐滴加入浓度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g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钠溶液，至红色出现并过量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加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6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甲醛溶液，如果红色退去、再加几滴氢氧化钠至红色出现，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盖上表面皿，置于沸水浴中加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min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加热过程中使溶液保持红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取下冷却片刻，趁热在不断搅拌下、逐滴加入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四苯硼钠溶液，继续搅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在流水下快速冷却至室温，静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使沉淀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0"/>
            <a:ext cx="4724280" cy="8380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69400" y="228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钾的沉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144792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预先已在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下烘干恒重的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号砂芯玻璃坩埚抽滤，先滤上清液，用四苯硼钠洗涤液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1.5g/L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用倾泻法洗涤沉淀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-7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次、每次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转移沉淀至坩埚内，用少量洗涤液洗烧杯内壁、坩埚内壁及沉淀，最后用水洗涤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次、每次用水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5ml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。抽滤干后，将玻璃坩埚底部的溶液用滤纸吸干，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20±2℃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下烘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9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取出，放入干燥器中冷却、称量，再烘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30min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检验是否恒重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质量差小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003g)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25600" y="609480"/>
            <a:ext cx="1039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沉淀的过滤、洗涤、烘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024" descr=""/>
          <p:cNvPicPr/>
          <p:nvPr/>
        </p:nvPicPr>
        <p:blipFill>
          <a:blip r:embed="rId2"/>
          <a:stretch/>
        </p:blipFill>
        <p:spPr>
          <a:xfrm>
            <a:off x="4952880" y="5530680"/>
            <a:ext cx="3886200" cy="131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33520" y="3505320"/>
            <a:ext cx="81532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别为样品和空白的四苯硼钾沉淀的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.1314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四苯硼钾换算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K2O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系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—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结果的绝对误差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lt;0.3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4419720" y="0"/>
            <a:ext cx="4724280" cy="6858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38080" y="1143000"/>
            <a:ext cx="7086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测定样品的同时，除不加试样外，按同样的测定步骤、同样的试剂和用量，进行同步空白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89320" y="457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、空白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16760" y="23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19320" y="297180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O%=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)*0.1314*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取用倍数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09480" y="1143000"/>
            <a:ext cx="762012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四苯硼钾沉淀在酸性介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C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也可形成，且生成沉淀的颗粒粗大，便于过滤和洗净，但沉淀不稳定，易分解，不如碱性条件下稳定，但沉淀的颗粒较细，易透过滤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氢氧化钠试剂中往往含有钾，测定含钾量较低的肥料时，为防止干扰，可在配制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时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的四苯硼钠沉淀剂，过滤后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四苯硼钠沉淀剂的加入量对测定结果有一定的影响，一般为理论用量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2~1.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倍，剩余的四苯硼钠浓度低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结果会偏低；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，因洗涤不完全，易导致结果偏高。适宜的量为剩余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0"/>
            <a:ext cx="4724280" cy="106668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苯硼质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83320" y="289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8-03-15T11:36:38Z</dcterms:modified>
  <cp:revision>12</cp:revision>
  <dc:subject/>
  <dc:title>PowerPoint 演示文稿</dc:title>
</cp:coreProperties>
</file>